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BB23-C493-4AAA-A81B-2C75936A9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to module 5 of our online training to support the Essential Standards that will be implemented during the 2012-2013 school yea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9C8-828F-4A0D-9FF2-2572B50A8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image of the Balsamic Reduction – what is left after boiling down is the absolute essence which is most powerfu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4AA-0DEA-4AC8-A0B5-3F550D97F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 briefly on how the standard course of study has been “boiled down” in your area into the new str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D7F-E044-445D-B18B-B6ABE9E63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you have a CMAPP account?  If not, check out the following website to learn how to get one: http://cmapp.wcpss.net/index/fa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currently revising pacing guides to reflect essential standards and place them in the 2012-2013 tab of Cmapp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so have exemplary lesson plans posted on the Arts Ed 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also start using Edmodo to share information about lesson plan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2EBB-8D9D-41D7-92A9-2087340B6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46F8-274D-458C-965A-6B171620D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0353-A320-494A-A2C9-6096D0E9A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63D2-D7AB-4FF2-8DF9-ACC60BC0F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D038-21F2-4775-8723-28A30D16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495-564C-41D2-85F9-CDA69E0C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87A-594A-4E5F-9C13-42974648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CCA-9267-4469-9C4C-40FE3AE3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0D30-AF5C-4450-88EA-B5AD8047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02F-27F4-4940-89C4-7C2303B5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8DB0-4553-4FEA-AFB8-5697B77F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D5F-8317-4389-8829-82AE8970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D146-4374-49A7-930A-CEFE2685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481-68F2-4A2A-9514-66E4A911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BD25-DE2E-4921-8456-A2CBFFA7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9EA-CA22-4262-ACFD-11BE674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0930-53F3-457C-B429-ED378CB4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CCDC-1FA0-4F9D-8F1C-910AB39D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D199-4B1E-40C7-BA41-18171B4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B47A-13B4-4ECB-A94D-36AFE6DB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33A-2B32-4DF7-9F43-8898D2DE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EB77-EF28-4781-B31A-EA6E9D4D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A7872-BD83-442F-821B-DB577061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51761-399A-492A-935A-C2356D6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C45CC-704C-41DA-8965-52D10BCD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D992A-FA09-4C04-9380-7A9B2DE3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AD5-0A86-4346-8C17-E4E97854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257E6-3CE9-4663-B826-AF064862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54BA-2D21-4A95-8DB6-46601F6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D0D5-B950-4DCB-9069-BB7E5E5B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A4FB5-A522-4FD1-89B7-5069B71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6340-7E82-4D17-84E6-FDA5E566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0E84-0354-48ED-9633-41B116FA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AA8B-C934-484D-B08B-8967B74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B3AE-3909-43B1-8E89-6FA5AF98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70C88-B48F-4D50-8C3D-A968E386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6F93-4525-4422-97FF-297D0E47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B35-0EBD-4316-AF88-D4D2B7DC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E698-2FEE-40D1-B22C-E0D40A8F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664C-B052-46B8-9B2F-9D942BDF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D130C-0CF3-48F7-8852-BEB2A780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1EF25-430A-4F8C-B29F-A66CEACA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AF5C-D807-4FC1-B933-FE0970E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2BA8B-04DA-4FD1-8526-01F45A71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310C-BADD-49AE-A5D4-D71D1DF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42FB4-09EE-4A86-B9A9-83C09F77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3F407-9E7B-4C26-B550-B090E8BB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55E37-3DD6-493B-8016-BF46CC78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CF5-7169-4EF5-A265-0D11957A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51E5-61B2-4A45-8A64-C91487ED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5B8F-961B-44F4-A769-365462A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75D32-019C-4C2C-A1FD-F603F99F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20E3A-383D-451F-A012-E6150697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4836F-4473-4098-8176-4E6D5EF0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8E26-0C76-4380-AD84-11941F6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2B868-99F9-4632-8075-6F40C906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B71FE-F725-4A34-92CB-9CF7B692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8CCB-D3EC-45CD-917F-59A3C02F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6EB1-064A-438B-A76E-3AF21B53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02E-791E-412E-A753-1D7CA1DF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CD3ED-0F93-4DA4-BFEE-4EBC71C7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E238B-4B3C-48B8-AB1D-195A3397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86A4B-BB39-4E36-8DB1-418D590E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BB5E-A7E0-495C-8810-E9BA0112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761C0-C8F1-423F-B1C8-9B3709AD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9107-4DD9-41AD-ACB0-12E5084D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6AAFC-6EEB-41A8-B1E5-EBCE5652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EC898-2B6C-4380-972E-100C907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0CD77-BFFA-47D3-882C-39E4AF8E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A10CC-F6B3-4C3B-86F2-81E57EC9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C406-0D84-48B6-91E2-13697D1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166B-1A09-4F3C-BD53-B6818814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AEC6C-E938-426F-8190-82923098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1FBA-0E6D-4F5B-98A9-8C9A9203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8D57-E683-4672-97C6-0D40FBEF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3C70-E5FF-409E-8E2C-7A336652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45BE9-6D87-4FE0-A1CC-14A4FCEA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54338-173A-4897-A28A-67900141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B6786-76D1-472F-BA08-F1B8B73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C0241-10A5-4B3B-875D-4FCAD4AA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4758B-25B0-4765-AEF8-54AE58C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298-4AB9-4CEE-A5AC-3B990850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09D94-D524-4544-934E-10CA1285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3CB90-A75D-43E3-B290-6230A71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D0CA8-C275-4F28-86FA-D8DDB87E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506D-042B-4134-8BC5-AFEE22C1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EF67D-46AB-4D8B-BE4C-D5F76D6B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5C6F-2FDA-4E80-A917-F06E79BF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33D02-006D-413D-98F2-0004A091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7D3DF-FE40-4574-AF99-FA93B071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27B5-72FF-4898-B2E9-6C9CAA0D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0D96-DFAA-447C-AF72-F06D120D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4A57-10A2-41F9-92BA-DFAD7AE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7AF4-DAA5-4DD7-A6B7-3B1F195D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6680-E021-4A26-A2D6-7D99F145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1ADEA-CEC1-4E47-85FB-C6982F22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B06E5-119A-4730-BC87-3E754188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16269-1780-4627-B542-0B9F5081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6299-74E8-4F4C-9C41-A7100B8E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BDB19-4FB8-4DBF-8434-4150A3E9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FC1F-1427-4621-81A8-364B4FFC48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6D83-53CE-40A2-9619-606AA8091E7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5CD7-BAFC-448B-AC10-5420A0F15E6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44E1-097E-4479-8BE8-BE222DE98C0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4BE0-D491-45FC-8E16-ED84BB87D4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8929-FC19-4ADF-BAD3-EA60B97B5CC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9CCB-9795-44F0-A87E-251040F8FD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498-867D-4BA8-949F-A5825E16969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987480"/>
            <a:ext cx="8253360" cy="2603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odule 5—Aligning Instruction &amp; Lesson Desig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earning Outcome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rticipants wil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actice re-aligning existing resources with the new Essential Standard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velop or revise a lesson plan based on one or more clarifying objective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55600" y="182520"/>
            <a:ext cx="8437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5235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rts Education Standard Course of Study contained 8 or 9 competency goal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se goals are now included in the Essential Standards and the three stran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Arial"/>
                <a:ea typeface="Arial"/>
              </a:rPr>
              <a:t>Comparing Str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Group 187" descr=""/>
          <p:cNvPicPr/>
          <p:nvPr/>
        </p:nvPicPr>
        <p:blipFill>
          <a:blip r:embed="rId1"/>
          <a:stretch/>
        </p:blipFill>
        <p:spPr>
          <a:xfrm>
            <a:off x="384120" y="1225440"/>
            <a:ext cx="7540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7160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ew Arts Essential Standards is the state curriculum mandated by the North Carolina Department of Public Instru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district develops a local curriculum that further elaborates on the Essential Standards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local curriculum and supporting documents will be housed in CMAPP (Curriculum Management Applic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s you plan your lessons this year, you may wish to consider including both the current SCoS objectives and one or more COs (Clarifying Objectives) 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905120"/>
            <a:ext cx="82296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You may use your own templa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Post to the discussion boar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111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808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tinue your exploration of how the new Essential Standards replace the current Standard Course of Study by completing the “Do” portion of this modu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12:29:00Z</dcterms:created>
  <dc:creator>elizabeth_droessler</dc:creator>
  <dc:description/>
  <dc:language>en-US</dc:language>
  <cp:lastModifiedBy>elizabeth_droessler</cp:lastModifiedBy>
  <dcterms:modified xsi:type="dcterms:W3CDTF">2012-06-11T15:39:31Z</dcterms:modified>
  <cp:revision>83</cp:revision>
  <dc:subject/>
  <dc:title>Common Core  Essential Standards  in the Arts</dc:title>
</cp:coreProperties>
</file>